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7F9-1D77-4A57-9DBF-06C00EA2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DA8-DD81-4DDB-A939-B247E186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4E2-C41B-4EF7-97A9-BC830850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CB1-D024-499B-95E5-D0749F3A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059-F681-4DE7-A723-B2901E5C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015-4A17-419C-B0A6-438D8481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A54-C3C6-44E7-915A-1E85809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D86-B6B9-429B-A96F-694E4108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C1F-2DD7-40C0-BD58-232E024A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41C-9B38-404D-926C-5BD31E08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52F-0566-48C3-9D83-C3E7B1B1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B56-415C-4DFB-A9E0-ADDE15D0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D1985C13-041E-4B63-9C60-32D8F6A740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gren.cn/Article_Print.asp?ArticleID=83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11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outhcn.com/news/gdnews/yingxiang/200211260618.htm/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wjhtsycz.com/jiaoshizuopin/ao2/dongwu/emiao.htm/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2276640"/>
            <a:ext cx="792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Lesson 11  Australia</a:t>
            </a:r>
            <a:endParaRPr b="1" lang="en-US" sz="6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8723160" cy="687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8040" y="248112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Western Austral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052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Northern Territ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16200" y="3220920"/>
            <a:ext cx="25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South Austral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34600" y="35733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New South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Wal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9440" y="191772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Queensland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32360" y="532440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Victor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60040" y="588816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Tasman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30640" y="887400"/>
            <a:ext cx="244440" cy="34797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78320" y="1177920"/>
            <a:ext cx="0" cy="195732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94080" y="3061800"/>
            <a:ext cx="2455920" cy="730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850000" y="3135240"/>
            <a:ext cx="84240" cy="25354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34240" y="3713040"/>
            <a:ext cx="2457360" cy="748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02200" y="4797360"/>
            <a:ext cx="1630440" cy="704880"/>
          </a:xfrm>
          <a:custGeom>
            <a:avLst/>
            <a:gdLst/>
            <a:ahLst/>
            <a:rect l="l" t="t" r="r" b="b"/>
            <a:pathLst>
              <a:path w="2567" h="1109">
                <a:moveTo>
                  <a:pt x="0" y="0"/>
                </a:moveTo>
                <a:cubicBezTo>
                  <a:pt x="116" y="35"/>
                  <a:pt x="227" y="67"/>
                  <a:pt x="344" y="95"/>
                </a:cubicBezTo>
                <a:cubicBezTo>
                  <a:pt x="389" y="417"/>
                  <a:pt x="290" y="213"/>
                  <a:pt x="634" y="259"/>
                </a:cubicBezTo>
                <a:cubicBezTo>
                  <a:pt x="703" y="269"/>
                  <a:pt x="737" y="339"/>
                  <a:pt x="794" y="375"/>
                </a:cubicBezTo>
                <a:cubicBezTo>
                  <a:pt x="819" y="445"/>
                  <a:pt x="834" y="521"/>
                  <a:pt x="873" y="586"/>
                </a:cubicBezTo>
                <a:cubicBezTo>
                  <a:pt x="905" y="634"/>
                  <a:pt x="979" y="724"/>
                  <a:pt x="979" y="724"/>
                </a:cubicBezTo>
                <a:cubicBezTo>
                  <a:pt x="1033" y="717"/>
                  <a:pt x="1090" y="722"/>
                  <a:pt x="1138" y="702"/>
                </a:cubicBezTo>
                <a:cubicBezTo>
                  <a:pt x="1167" y="689"/>
                  <a:pt x="1164" y="649"/>
                  <a:pt x="1189" y="631"/>
                </a:cubicBezTo>
                <a:cubicBezTo>
                  <a:pt x="1212" y="616"/>
                  <a:pt x="1243" y="616"/>
                  <a:pt x="1269" y="609"/>
                </a:cubicBezTo>
                <a:cubicBezTo>
                  <a:pt x="1383" y="616"/>
                  <a:pt x="1511" y="586"/>
                  <a:pt x="1613" y="631"/>
                </a:cubicBezTo>
                <a:cubicBezTo>
                  <a:pt x="1662" y="651"/>
                  <a:pt x="1608" y="734"/>
                  <a:pt x="1639" y="772"/>
                </a:cubicBezTo>
                <a:cubicBezTo>
                  <a:pt x="1662" y="800"/>
                  <a:pt x="1710" y="790"/>
                  <a:pt x="1747" y="795"/>
                </a:cubicBezTo>
                <a:cubicBezTo>
                  <a:pt x="1835" y="805"/>
                  <a:pt x="1921" y="812"/>
                  <a:pt x="2009" y="820"/>
                </a:cubicBezTo>
                <a:cubicBezTo>
                  <a:pt x="2063" y="850"/>
                  <a:pt x="2114" y="883"/>
                  <a:pt x="2168" y="913"/>
                </a:cubicBezTo>
                <a:cubicBezTo>
                  <a:pt x="2194" y="928"/>
                  <a:pt x="2248" y="958"/>
                  <a:pt x="2248" y="958"/>
                </a:cubicBezTo>
                <a:cubicBezTo>
                  <a:pt x="2302" y="1110"/>
                  <a:pt x="2391" y="1077"/>
                  <a:pt x="2567" y="1077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08720" y="4221000"/>
            <a:ext cx="1801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fc0128"/>
                </a:solidFill>
                <a:latin typeface="Times New Roman"/>
              </a:rPr>
              <a:t>Australia Capital Territory</a:t>
            </a:r>
            <a:endParaRPr b="1" lang="en-US" sz="25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5013360"/>
            <a:ext cx="614160" cy="268200"/>
          </a:xfrm>
          <a:custGeom>
            <a:avLst/>
            <a:gdLst/>
            <a:ahLst/>
            <a:rect l="l" t="t" r="r" b="b"/>
            <a:pathLst>
              <a:path w="967" h="422">
                <a:moveTo>
                  <a:pt x="0" y="422"/>
                </a:moveTo>
                <a:cubicBezTo>
                  <a:pt x="64" y="157"/>
                  <a:pt x="387" y="252"/>
                  <a:pt x="554" y="72"/>
                </a:cubicBezTo>
                <a:cubicBezTo>
                  <a:pt x="562" y="52"/>
                  <a:pt x="554" y="14"/>
                  <a:pt x="575" y="12"/>
                </a:cubicBezTo>
                <a:cubicBezTo>
                  <a:pt x="705" y="0"/>
                  <a:pt x="967" y="32"/>
                  <a:pt x="967" y="32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0120" y="1268280"/>
            <a:ext cx="19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fc0128"/>
                </a:solidFill>
                <a:latin typeface="Times New Roman"/>
              </a:rPr>
              <a:t>Animals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2706120" y="2205000"/>
            <a:ext cx="19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Scenery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648680" y="33577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Travel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5802120" y="4605480"/>
            <a:ext cx="20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Customs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476280"/>
            <a:ext cx="7632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List things that interest you.</a:t>
            </a:r>
            <a:endParaRPr b="1" lang="en-US" sz="4400" spc="-1" strike="noStrike">
              <a:solidFill>
                <a:srgbClr val="fc012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</a:tabLst>
            </a:pPr>
            <a:endParaRPr b="1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692360" y="404640"/>
            <a:ext cx="5111640" cy="4387680"/>
            <a:chOff x="1692360" y="404640"/>
            <a:chExt cx="5111640" cy="4387680"/>
          </a:xfrm>
        </p:grpSpPr>
        <p:pic>
          <p:nvPicPr>
            <p:cNvPr id="121" name="" descr="20051410615472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92360" y="404640"/>
              <a:ext cx="5111640" cy="38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843640" y="4149720"/>
              <a:ext cx="267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3600" spc="-1" strike="noStrike">
                  <a:solidFill>
                    <a:srgbClr val="fc0128"/>
                  </a:solidFill>
                  <a:latin typeface="Times New Roman"/>
                </a:rPr>
                <a:t>bushwalking</a:t>
              </a:r>
              <a:endParaRPr b="1" lang="en-US" sz="3600" spc="-1" strike="noStrike">
                <a:solidFill>
                  <a:srgbClr val="fc0128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421080" y="2565360"/>
            <a:ext cx="5040360" cy="4316040"/>
            <a:chOff x="3421080" y="2565360"/>
            <a:chExt cx="5040360" cy="4316040"/>
          </a:xfrm>
        </p:grpSpPr>
        <p:pic>
          <p:nvPicPr>
            <p:cNvPr id="124" name="" descr="Sports_Moutbike_002"/>
            <p:cNvPicPr/>
            <p:nvPr/>
          </p:nvPicPr>
          <p:blipFill>
            <a:blip r:embed="rId3"/>
            <a:stretch/>
          </p:blipFill>
          <p:spPr>
            <a:xfrm>
              <a:off x="3421080" y="2565360"/>
              <a:ext cx="5040360" cy="37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297400" y="6238800"/>
              <a:ext cx="155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3600" spc="-1" strike="noStrike">
                  <a:solidFill>
                    <a:srgbClr val="fc0128"/>
                  </a:solidFill>
                  <a:latin typeface="Times New Roman"/>
                </a:rPr>
                <a:t>cycling</a:t>
              </a:r>
              <a:endParaRPr b="1" lang="en-US" sz="3600" spc="-1" strike="noStrike">
                <a:solidFill>
                  <a:srgbClr val="fc0128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83240" y="262260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Travel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15800" y="546084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Times New Roman"/>
              </a:rPr>
              <a:t>beach</a:t>
            </a:r>
            <a:endParaRPr b="1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468360" y="6021360"/>
            <a:ext cx="503280" cy="432000"/>
          </a:xfrm>
          <a:prstGeom prst="leftArrow">
            <a:avLst>
              <a:gd name="adj1" fmla="val 50000"/>
              <a:gd name="adj2" fmla="val 29120"/>
            </a:avLst>
          </a:prstGeom>
          <a:gradFill rotWithShape="0">
            <a:gsLst>
              <a:gs pos="0">
                <a:srgbClr val="ffffff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286160" y="333360"/>
            <a:ext cx="3668760" cy="34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0720" y="351648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Custo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66880" y="571680"/>
            <a:ext cx="6153120" cy="4723920"/>
            <a:chOff x="2666880" y="571680"/>
            <a:chExt cx="6153120" cy="4723920"/>
          </a:xfrm>
        </p:grpSpPr>
        <p:pic>
          <p:nvPicPr>
            <p:cNvPr id="132" name="" descr="200211260618_241854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666880" y="571680"/>
              <a:ext cx="6153120" cy="41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777480" y="4653000"/>
              <a:ext cx="451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3600" spc="-1" strike="noStrike">
                  <a:solidFill>
                    <a:srgbClr val="fc0128"/>
                  </a:solidFill>
                  <a:latin typeface="Times New Roman"/>
                </a:rPr>
                <a:t>Australian Aborigines</a:t>
              </a:r>
              <a:endParaRPr b="1" lang="en-US" sz="3600" spc="-1" strike="noStrike">
                <a:solidFill>
                  <a:srgbClr val="fc0128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411280" y="1557360"/>
            <a:ext cx="5694480" cy="4314600"/>
            <a:chOff x="2411280" y="1557360"/>
            <a:chExt cx="5694480" cy="4314600"/>
          </a:xfrm>
        </p:grpSpPr>
        <p:pic>
          <p:nvPicPr>
            <p:cNvPr id="135" name="" descr="pic_142306"/>
            <p:cNvPicPr/>
            <p:nvPr/>
          </p:nvPicPr>
          <p:blipFill>
            <a:blip r:embed="rId3"/>
            <a:stretch/>
          </p:blipFill>
          <p:spPr>
            <a:xfrm>
              <a:off x="2411280" y="1557360"/>
              <a:ext cx="5694480" cy="37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781080" y="5229360"/>
              <a:ext cx="221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3600" spc="-1" strike="noStrike">
                  <a:solidFill>
                    <a:srgbClr val="fc0128"/>
                  </a:solidFill>
                  <a:latin typeface="Times New Roman"/>
                </a:rPr>
                <a:t>Christmas</a:t>
              </a:r>
              <a:endParaRPr b="1" lang="en-US" sz="3600" spc="-1" strike="noStrike">
                <a:solidFill>
                  <a:srgbClr val="fc0128"/>
                </a:solidFill>
                <a:latin typeface="Arial"/>
              </a:endParaRPr>
            </a:p>
          </p:txBody>
        </p:sp>
      </p:grp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468360" y="6021360"/>
            <a:ext cx="503280" cy="432000"/>
          </a:xfrm>
          <a:prstGeom prst="leftArrow">
            <a:avLst>
              <a:gd name="adj1" fmla="val 50000"/>
              <a:gd name="adj2" fmla="val 29120"/>
            </a:avLst>
          </a:prstGeom>
          <a:gradFill rotWithShape="0">
            <a:gsLst>
              <a:gs pos="0">
                <a:srgbClr val="ffffff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61600" y="2487600"/>
            <a:ext cx="619308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Arial"/>
              </a:rPr>
              <a:t>1.What do you know about Austra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92360" y="5789520"/>
            <a:ext cx="6624720" cy="1191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c0128"/>
                </a:solidFill>
                <a:latin typeface="Tahoma"/>
              </a:rPr>
              <a:t>the  flag </a:t>
            </a: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of Austral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2808360"/>
            <a:ext cx="7416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c0128"/>
                </a:solidFill>
                <a:latin typeface="Times New Roman"/>
                <a:ea typeface="宋体"/>
              </a:rPr>
              <a:t>国旗</a:t>
            </a:r>
            <a:br>
              <a:rPr sz="3600"/>
            </a:b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澳大利亚联邦的国旗，底色为深蓝色，它象征着浩瀚的大洋，而澳大利亚恰好是孤悬在大洋上的大陆岛。在靠近旗杆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1/4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处是一面红白相间的英国米字旗，它象征着澳大利亚和英国的传统关系。在米字旗下边是一颗白色的七角星，它代表澳大利亚联邦的六个州和一个地区。国旗右边是由四颗白色七角星和一颗白色五角星组成的南十字星座，表明澳大利亚所处的南太平洋地位位置。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14836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xinsrc_f4639519b66f11d697d200b0d03f0aa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03280" y="5589720"/>
            <a:ext cx="7283520" cy="6426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The national emblem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of Australi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99216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kangaro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33360"/>
            <a:ext cx="5435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c0128"/>
                </a:solidFill>
                <a:latin typeface="Times New Roman"/>
                <a:ea typeface="宋体"/>
              </a:rPr>
              <a:t>国徽</a:t>
            </a:r>
            <a:br>
              <a:rPr sz="3600"/>
            </a:b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　</a:t>
            </a:r>
            <a:r>
              <a:rPr b="1" lang="zh-CN" sz="2800" spc="-1" strike="noStrike">
                <a:solidFill>
                  <a:srgbClr val="009999"/>
                </a:solidFill>
                <a:latin typeface="楷体"/>
                <a:ea typeface="楷体"/>
              </a:rPr>
              <a:t>澳大利亚国徽是联邦政府的正式标志，</a:t>
            </a:r>
            <a:r>
              <a:rPr b="1" lang="zh-CN" sz="2800" spc="-1" strike="noStrike">
                <a:solidFill>
                  <a:srgbClr val="009999"/>
                </a:solidFill>
                <a:latin typeface="楷体"/>
                <a:ea typeface="楷体"/>
              </a:rPr>
              <a:t>1912</a:t>
            </a:r>
            <a:r>
              <a:rPr b="1" lang="zh-CN" sz="2800" spc="-1" strike="noStrike">
                <a:solidFill>
                  <a:srgbClr val="009999"/>
                </a:solidFill>
                <a:latin typeface="楷体"/>
                <a:ea typeface="楷体"/>
              </a:rPr>
              <a:t>年由英国国王乔治五世授予。国徽由袋鼠和鸸鹋举着一个盾牌构成主体，盾牌上有组成联邦六个州的州徽，背景是一束澳大利亚国花——金合欢花。据说，选用袋鼠和鸸鹋作为国兽的一个理由是，这两种动物不会后退只会前进。</a:t>
            </a:r>
            <a:br>
              <a:rPr sz="2800"/>
            </a:b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89" name="" descr="xinsrc_f4639519b66f11d697d200b0d03f0aaf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1483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  <a:ea typeface="宋体"/>
              </a:rPr>
              <a:t>国花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宋体"/>
              </a:rPr>
              <a:t> </a:t>
            </a:r>
            <a:br>
              <a:rPr sz="3600"/>
            </a:b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　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宋体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在澳大利亚，金合欢是最具代表性的植物，是国花。金合欢别名叫相思树。属豆科的有刺灌术或小乔木， 二回羽状复叶， 头状花序簇生于叶腋，盛开时，好像金色的绒球一般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在澳大利亚，你稍加留意就会发现，居民的庭院不是用墙围起来，而是用金合欢作刺篱，种在房屋周围，非常别致。花开时节，花篱似一金色屏障，带着浓郁的花香，令人沉醉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　　金合欢还是一种经济树种，芳香的花可提炼芳香油作高级香水等化妆品的原料。果荚、树皮和根内含有单宁，可做黑色染料，茎中流出的树脂含有树胶，可供药用。术材坚硬，可制贵重器具用品。</a:t>
            </a:r>
            <a:br>
              <a:rPr sz="2000"/>
            </a:b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91" name="" descr="20041230113443602"/>
          <p:cNvPicPr/>
          <p:nvPr/>
        </p:nvPicPr>
        <p:blipFill>
          <a:blip r:embed="rId2"/>
          <a:stretch/>
        </p:blipFill>
        <p:spPr>
          <a:xfrm>
            <a:off x="5292720" y="549360"/>
            <a:ext cx="385128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43280" y="0"/>
            <a:ext cx="500544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  <a:ea typeface="楷体"/>
              </a:rPr>
              <a:t>国色</a:t>
            </a:r>
            <a:r>
              <a:rPr b="1" lang="zh-CN" sz="3600" spc="-1" strike="noStrike">
                <a:solidFill>
                  <a:srgbClr val="fc0128"/>
                </a:solidFill>
                <a:latin typeface="Times New Roman"/>
                <a:ea typeface="宋体"/>
              </a:rPr>
              <a:t> </a:t>
            </a:r>
            <a:br>
              <a:rPr sz="3600"/>
            </a:b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宋体"/>
              </a:rPr>
              <a:t>　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  <a:ea typeface="宋体"/>
              </a:rPr>
              <a:t>　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澳大利亚于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1948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年确立绿色和金黄色为国色。绿色象征生命和环境，体现出澳大利亚是个年轻充满朝气的国家。金黄色象征澳大利亚充足的阳光和矿产资源。</a:t>
            </a:r>
            <a:br>
              <a:rPr sz="2400"/>
            </a:br>
            <a:r>
              <a:rPr b="1" lang="zh-CN" sz="3600" spc="-1" strike="noStrike">
                <a:solidFill>
                  <a:srgbClr val="fc0128"/>
                </a:solidFill>
                <a:latin typeface="楷体"/>
                <a:ea typeface="楷体"/>
              </a:rPr>
              <a:t>国庆日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"/>
              </a:rPr>
              <a:t> </a:t>
            </a:r>
            <a:br>
              <a:rPr sz="3600"/>
            </a:b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　　澳大利亚的国庆日是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月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26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日。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1788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年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月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26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日，英国皇家海军的阿瑟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菲利普船长率领的“第一舰队”驶进杰克逊港（悉尼湾），开始了殖民澳大利亚的历史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楷体"/>
                <a:ea typeface="楷体"/>
              </a:rPr>
              <a:t>国鸟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"/>
              </a:rPr>
              <a:t>　</a:t>
            </a:r>
            <a:r>
              <a:rPr b="1" lang="zh-CN" sz="2400" spc="-1" strike="noStrike">
                <a:solidFill>
                  <a:srgbClr val="009999"/>
                </a:solidFill>
                <a:latin typeface="楷体"/>
                <a:ea typeface="楷体"/>
              </a:rPr>
              <a:t>　澳大利亚的国鸟是鸸鹋。形似鸵鸟。澳洲人也称它为食火鸟。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93" name="" descr="emiao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61620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4503t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76720" y="-171360"/>
            <a:ext cx="40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fc0128"/>
                </a:solidFill>
                <a:latin typeface="Times New Roman"/>
              </a:rPr>
              <a:t>Pacific ocean</a:t>
            </a:r>
            <a:endParaRPr b="1" lang="en-US" sz="4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501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fc0128"/>
                </a:solidFill>
                <a:latin typeface="Times New Roman"/>
              </a:rPr>
              <a:t>India ocean</a:t>
            </a:r>
            <a:endParaRPr b="1" lang="en-US" sz="4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4653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New zealand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-17136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c0128"/>
                </a:solidFill>
                <a:latin typeface="Times New Roman"/>
              </a:rPr>
              <a:t>Philippin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7T05:25:32Z</dcterms:created>
  <dc:creator/>
  <dc:description/>
  <dc:language>en-US</dc:language>
  <cp:lastModifiedBy/>
  <dcterms:modified xsi:type="dcterms:W3CDTF">2017-09-15T04:25:1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